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DD7-21ED-4141-A668-DC16238B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E94-27CE-4932-B39C-059121A8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9352-AA8D-458D-AE78-F55497A4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ED6-B459-43D9-AE8D-2640849E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D165-3DAE-4C24-A81D-A43DCA4D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463E-50DD-4CD3-AA3D-8241FFC3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A386-DBED-4BB5-B951-43D8C4DC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AB9B-C484-4EB0-97FC-BEE27084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450-BAB2-4673-A018-82D3768C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20DF-69E6-4978-8E6B-D078117F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806-7CA9-4184-AC7E-9EF41AD8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9814-2745-41F9-BAF1-B64CC12D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EF2A-694C-4BD8-8E1E-53FA97038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eb.mit.edu/invent/iow/mars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62920" y="5391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h March 11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47920" y="1295280"/>
            <a:ext cx="64008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&amp;M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80008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660066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Mars"/>
          <p:cNvPicPr/>
          <p:nvPr/>
        </p:nvPicPr>
        <p:blipFill>
          <a:blip r:embed="rId1"/>
          <a:srcRect l="46667" t="0" r="0" b="11440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Mars"/>
          <p:cNvPicPr/>
          <p:nvPr/>
        </p:nvPicPr>
        <p:blipFill>
          <a:blip r:embed="rId2"/>
          <a:stretch/>
        </p:blipFill>
        <p:spPr>
          <a:xfrm>
            <a:off x="5943600" y="2362320"/>
            <a:ext cx="3200400" cy="4495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5029200"/>
            <a:ext cx="3962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M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onday, February 28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mar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Forrest E. Mars, S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ush Script MT"/>
              </a:rPr>
              <a:t>Forrest was born on March 21,1904 in Minnesota and raised in Canada after his parents divo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ush Script MT"/>
              </a:rPr>
              <a:t>His father Frank C. Mars, had been operating a successful candy business of his own in Chic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ush Script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ush Script MT"/>
              </a:rPr>
              <a:t>From this company, Mars, inc, establish in franks home  in Tacoma Washington in 1911,came the ever popular Snickers, Milky way, Three Muskete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ush Script MT"/>
              </a:rPr>
              <a:t>He also set up a small candy factory in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ush Script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ush Script MT"/>
              </a:rPr>
              <a:t>Mars retired from Mars, Inc, In 1993 and stared a new company Ethel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ush Script MT"/>
              </a:rPr>
              <a:t>Mars died in July 1,1999 at the age of 95. At the time of his death his estimated worth 4 bill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M&amp;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In 1940 Mars concocted his own version of candy coated chocolate drops took them to Hers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The design was patented on March 3,1941 that year M&amp;M went on s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In, 1954 M&amp;M peanut chocolate  candy introduced and black M&amp;M impring was change to wh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By 1958,demand for M&amp;M had surpassed 1 million pounds for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M&amp;M’S were also the official candy at the 1984 Olympics in Los Ange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26:49Z</dcterms:created>
  <dc:creator>install</dc:creator>
  <dc:description/>
  <dc:language>en-US</dc:language>
  <cp:lastModifiedBy>install</cp:lastModifiedBy>
  <dcterms:modified xsi:type="dcterms:W3CDTF">2011-03-11T18:32:03Z</dcterms:modified>
  <cp:revision>13</cp:revision>
  <dc:subject/>
  <dc:title>Slide 1</dc:title>
</cp:coreProperties>
</file>